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3BCA-D1FE-4A26-A369-6AAEC82A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5C46-73A5-4267-8F74-6756B9A5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88B1-D971-40F6-8334-D3311883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18C7-C373-4B1F-8CD6-039C952E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62D-6B57-41C3-B4E1-8C47D06E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9DFF-C5D3-4FA1-8997-34117F18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5E9-31C2-4F61-8FB9-34BD972D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C91-FC05-457F-B1D0-E83326EF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7A0-0223-4ECD-9CB4-13A27C05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D74F-3DAA-458F-BF7C-E4EB3BED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8627-D916-48C3-B10F-96F4F32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3DCD-F94A-48C3-B89F-D548BEE8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F6E0-468A-4E76-8993-5C9BE360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F40-F495-4307-9DDE-CC7A8E4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5594-329E-4445-9453-07670A5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8E31-D1B8-43EA-8328-657B498C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B75E-6A58-45FC-A9CC-F42CF28C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15DE-8B0C-4AE5-9E34-AFEE4FB2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5C16-00E8-40DE-8699-37B226F6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78BF-F25C-464D-B3F9-DCF93102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BA73-B5B5-4D0E-A532-30F7FA81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EA98-89D9-4591-BB03-A396023E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42AD-C42D-4489-831A-38121EEC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D04D8-2E54-4BFC-A8D8-F281689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E3B-DEAE-43A5-8AA2-79600DC22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114-B3B6-40CA-ADCE-FB95895DE5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emistry of Life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h 3-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Water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fe began in wate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ving things are 50% or more wate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eded for chemical reactions, transport materials through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d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as many unique proper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72320" y="3276720"/>
            <a:ext cx="2371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The Nature of Mat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atter:  anything that has volume and takes up spa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toms:  smallest unit of matt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tons and neutr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cated in nucle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lectrons orbit nucle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58080" y="3772080"/>
            <a:ext cx="30859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lements:  made of only one type of atom – cannot be broken into  a simpler form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xamples:  carbon, gold, hydroge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cated on periodic ta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060720"/>
            <a:ext cx="5790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mpound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form when 2 or more elements chemically combine to make a new substa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typ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olecular compound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form when different atoms SHARE outermost electr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onic compound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form when different atoms give away or take on electrons from other 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C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841480"/>
            <a:ext cx="6477120" cy="374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228600"/>
            <a:ext cx="35812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3148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ixture:  substances combine, but retain original properit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an be seperated into original material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s:  Kool Aid, salad dress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c Compou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ways contain carbon and hydrogen and are associated with living thing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H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arbohydrates, proteins, lipids, nucleic aci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arbohydrate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supply energy to cel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ugars, starches, cellulo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ipids: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energy storag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ats, oils, steriods, wax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tein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 building blocks of cell, make enzym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ucleic Acid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: store coded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NA and RN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9:16:26Z</dcterms:created>
  <dc:creator>Teacher</dc:creator>
  <dc:description/>
  <dc:language>en-US</dc:language>
  <cp:lastModifiedBy>Teacher</cp:lastModifiedBy>
  <dcterms:modified xsi:type="dcterms:W3CDTF">2008-12-09T19:30:20Z</dcterms:modified>
  <cp:revision>2</cp:revision>
  <dc:subject/>
  <dc:title>Chemistry of Life Ch 3-1</dc:title>
</cp:coreProperties>
</file>